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C546-2DCE-494F-BF5D-700271E13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ABEB-8A55-4058-9CC7-9BA2443E6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3ED0-F587-471F-ABF8-826C01D0F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856-4E9E-4B11-B435-7C1E82C5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809-98AE-40B8-99AE-C98A94B0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586-CE6C-4168-8970-31194AD5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22D-D8A9-4ECD-8260-D0CA07E3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ABF-742C-4AA5-9787-1AA586D0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A7D-F19A-4F81-8ECE-EE23B443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ECB-0E64-4244-9024-98DD3512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93D-B276-4BBF-B18E-5CC6ED0A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09A-7629-4CC9-A097-F791F968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9EE-5BE0-416F-A041-0C6ABED2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E17-94BA-4943-99A5-488CB008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E55-BCF1-49EE-8000-CD19483A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239760"/>
          <a:ext cx="6858000" cy="86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9760"/>
                    <a:ext cx="6858000" cy="86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382840" y="314280"/>
            <a:ext cx="2016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D PROBLEM (REVIEW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0680" y="730080"/>
            <a:ext cx="6184800" cy="37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PLOC has received the following docu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A purchase order dated 16 January **, specified the DEH as the office w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vendor forwards invoices.  The OPLOC is the paying office.  Terms offered are 2 percen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 days, net 30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A receiving report showing a date of delivery as 15 January ** and a date of accept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24 January **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A vendor’s invoice dated 18 January **, received in DEH on 23 January **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your office on 25 January **, offering terms of 3 percent, 10 days, net 30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Today is 25 June **, and the interest penalty percentage is 9.5 perc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  Cost of supply or nonpersonal service is $2,500.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The last date that payment can be made to earn the discount would b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What was  the payment due date (net 30)?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.  Based on today’s date, what is the amount of the interest penalty payment?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580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4360" y="458640"/>
          <a:ext cx="5491080" cy="822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58640"/>
                    <a:ext cx="5491080" cy="82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1022400"/>
            <a:ext cx="173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den City Food Servic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98 W. Harding S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den City, GA 314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43720" y="1617840"/>
            <a:ext cx="173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 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N: 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5520" y="2255760"/>
            <a:ext cx="169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OUND BEEF 80% L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45960" y="223668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 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97920" y="223668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89 l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7096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4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8880" y="40514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9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28680" y="4370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601 111011.00 - 26EB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7400" y="578340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P.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28600" y="601992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NING FACILITY OFI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87680" y="627696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9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71240" y="6904080"/>
            <a:ext cx="69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. EL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74280" y="691200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. El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7600" y="696276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720" y="267984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LK 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49920" y="26798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4040" y="268452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0 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267984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7040" y="1022400"/>
            <a:ext cx="159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stinghouse Lighting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1 W. Broa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llas TX 754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43720" y="1617840"/>
            <a:ext cx="173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 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N: 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45520" y="225576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TENTION 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74480" y="2236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98280" y="22366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7096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5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8520" y="405144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25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8680" y="4370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20280" y="578340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 Kenn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27160" y="6019920"/>
            <a:ext cx="134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LY SERGE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7680" y="627696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5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2680" y="69040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A. LIT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03080" y="6912000"/>
            <a:ext cx="7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W.A. Lit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7600" y="696276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44800" y="2465280"/>
            <a:ext cx="15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GHT BULBS, 60 W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66560" y="2465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85320" y="2465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6560" y="2479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44080" y="2679840"/>
            <a:ext cx="110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N, ELECT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66560" y="2679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42120" y="26845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99320" y="26798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022400"/>
            <a:ext cx="12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nford Brother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1 Que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ncinnati OH 45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45520" y="1674720"/>
            <a:ext cx="1785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st FORWARD SUPPORT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5720" y="2255760"/>
            <a:ext cx="167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NTAL OF GENE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89160" y="2236680"/>
            <a:ext cx="50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1372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8520" y="405144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1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58480" y="439884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%1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5CZ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08760" y="578340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. Philli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25360" y="601992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BO 1ST F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73040" y="690408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 Att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42840" y="2465280"/>
            <a:ext cx="21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IOD OF RENTAL: 24-28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18240" y="469440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65240" y="7432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65040" y="912960"/>
            <a:ext cx="1828800" cy="500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SPITAL SUPPLIES R 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2277 SAINT ELSEWHERE D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LTIMORE, MD  15001-01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0160" y="1522440"/>
            <a:ext cx="71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9800" y="1827360"/>
            <a:ext cx="215028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T. STEWART GENERAL HOSP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TN:  AFZT-H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T. STEWART, GA  31314-09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8760" y="768240"/>
            <a:ext cx="280656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0600" y="836640"/>
            <a:ext cx="222372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 311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ICE    14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DER     DFASLW-00-A-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38560" y="106668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38560" y="144792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38560" y="182880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01400" y="2371680"/>
            <a:ext cx="1307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PPEAR O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.O., PAC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PS &amp; PACK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0840" y="2819520"/>
            <a:ext cx="2737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TO:    FT. STEWART GENERAL HOSP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 E. JACKSON STR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60" y="342900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3400" y="3579840"/>
            <a:ext cx="461628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MS:  N/30                                       FOB:                                     DATE SHIPPED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3372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3848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4120" y="4037040"/>
            <a:ext cx="52974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VIA:   TRUCK                                                                                         OTHER: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40766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7720" y="4522680"/>
            <a:ext cx="470304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EM             DESCRIPTION                             QUANTITY              PRICE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384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528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34840" y="7661160"/>
            <a:ext cx="219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cript"/>
              </a:rPr>
              <a:t>Thank You For Your Ord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0520" y="8004240"/>
            <a:ext cx="2624400" cy="575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All documents are date stamped w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. The vendor’s format may vary from th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ample, however, regardless of the format, the s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ic information must be display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03560" y="7694640"/>
            <a:ext cx="18320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RCHANDISE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IGH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160" y="762012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960" y="4875120"/>
            <a:ext cx="6084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             PROTECTIVE GLOVES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                    225.00             225.0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99280" y="6305400"/>
            <a:ext cx="1370160" cy="545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 MAY 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7920" y="7694640"/>
            <a:ext cx="16286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8853480"/>
            <a:ext cx="64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58120" y="1022400"/>
            <a:ext cx="146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TO R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67 EVERGREEN 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ICAGO, IL 54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43720" y="1617840"/>
            <a:ext cx="173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RD SIGNAL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44800" y="2255760"/>
            <a:ext cx="144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RT-O-LET R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46320" y="2236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.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1372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08520" y="405144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30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28680" y="4370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5CZ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14880" y="57834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T.J. Sh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925720" y="601992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4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73040" y="690408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 Att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41560" y="2422440"/>
            <a:ext cx="169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ntal  Period: 22-31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56400" y="467532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65760" y="912960"/>
            <a:ext cx="1566720" cy="500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TO ROO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67 EVERGREEN DR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CAGO, IL 547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0160" y="1522440"/>
            <a:ext cx="71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0880" y="1827360"/>
            <a:ext cx="17802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TN: 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8760" y="768240"/>
            <a:ext cx="280656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80960" y="836640"/>
            <a:ext cx="239436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 1AA-02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ICE    1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DER      DAFI01-**-M-1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38560" y="106668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38560" y="144792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38560" y="182880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07880" y="2371680"/>
            <a:ext cx="1307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PPEAR O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.O., PAC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PS &amp; PACK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 N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91000" y="2814480"/>
            <a:ext cx="847800" cy="22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A112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7440" y="2894040"/>
            <a:ext cx="227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TO:    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RD SIGNAL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01400" y="3198960"/>
            <a:ext cx="1652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S PERSON:   C. Atk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160" y="342900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4840" y="3579840"/>
            <a:ext cx="503244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MS:  N/30                                       FOB:   DESTINATION                       DATE SHIPPED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3372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4120" y="4037040"/>
            <a:ext cx="52974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VIA:   TRUCK                                                                                         OTHER: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40766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7720" y="4522680"/>
            <a:ext cx="470304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EM             DESCRIPTION                                QUANTITY           PRICE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808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6384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528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4800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4840" y="7661160"/>
            <a:ext cx="219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cript"/>
              </a:rPr>
              <a:t>Thank You For Your Ord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0520" y="8004240"/>
            <a:ext cx="2624400" cy="575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All documents are date stamped w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. The vendor’s format may vary from th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ample, however, regardless of the format, the s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ic information must be display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03560" y="7694640"/>
            <a:ext cx="18320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RCHANDISE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IGH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160" y="762012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3400" y="4875120"/>
            <a:ext cx="5171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             Rental of Port-O-Lets                                10                    30.15          $301.50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99280" y="6305400"/>
            <a:ext cx="1370160" cy="545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57920" y="7694640"/>
            <a:ext cx="16286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301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301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22600" y="501336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ntal Period  (22-31 May *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8840" y="1022400"/>
            <a:ext cx="196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RNER MOTOR SU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7 E. WASHINGTO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NCINNATI, OH 45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43720" y="1617840"/>
            <a:ext cx="173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 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44080" y="225576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O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074840" y="223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1372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9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08520" y="405144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39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743360" y="439884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% 2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02640" y="578340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 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24640" y="6019920"/>
            <a:ext cx="11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Pool 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7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73040" y="690408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 HO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396240" y="6912000"/>
            <a:ext cx="8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B HO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7600" y="696276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7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43360" y="24652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66920" y="246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85320" y="2465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4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56560" y="2479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9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46240" y="267984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NDSHIELD WIP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066920" y="2679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2560" y="2684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056560" y="267984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9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5T18:14:39Z</dcterms:created>
  <dc:creator>SFC Davis, James E.</dc:creator>
  <dc:description/>
  <dc:language>en-US</dc:language>
  <cp:lastModifiedBy>Administrator</cp:lastModifiedBy>
  <cp:lastPrinted>2001-05-04T18:39:24Z</cp:lastPrinted>
  <dcterms:modified xsi:type="dcterms:W3CDTF">2004-10-25T20:21:00Z</dcterms:modified>
  <cp:revision>21</cp:revision>
  <dc:subject/>
  <dc:title>No Slide Title</dc:title>
</cp:coreProperties>
</file>